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CC6C-E8A6-4191-BDD4-C47A81CBA82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投影片編號版面配置區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A405-28AD-4A08-B5AE-14FB66210F4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3C9-CFE9-44AE-964E-006DB464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257-05B3-4F27-B743-26C26951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EE1-C453-4A67-A55F-2A0677A7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CB8-5518-4C00-9F53-E28F77AF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74400" y="-141480"/>
            <a:ext cx="657396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ADD-8581-41EE-86EA-CD48E12D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83B-5E97-4310-8A94-7DEDEF30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5B3-644F-4877-B83B-17F91C3D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93A-BC30-43D6-BEB7-DB08D4F3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174400" y="-141480"/>
            <a:ext cx="657396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C34-3423-4D2B-B5F9-F94BB564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A7A-4207-4648-BD3E-63A043CB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CCA-DCAA-4B9F-9CAE-E87120C9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937-344B-4875-B11A-A6B172D2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6215040"/>
            <a:ext cx="5724360" cy="642960"/>
          </a:xfrm>
          <a:prstGeom prst="rect">
            <a:avLst/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pic5"/>
          <p:cNvPicPr/>
          <p:nvPr/>
        </p:nvPicPr>
        <p:blipFill>
          <a:blip r:embed="rId2"/>
          <a:stretch/>
        </p:blipFill>
        <p:spPr>
          <a:xfrm>
            <a:off x="0" y="6429240"/>
            <a:ext cx="2928960" cy="4287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009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pic3"/>
          <p:cNvPicPr/>
          <p:nvPr/>
        </p:nvPicPr>
        <p:blipFill>
          <a:blip r:embed="rId3"/>
          <a:srcRect l="0" t="5717" r="37404" b="77551"/>
          <a:stretch/>
        </p:blipFill>
        <p:spPr>
          <a:xfrm>
            <a:off x="8075520" y="0"/>
            <a:ext cx="106848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-36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7164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27640" y="6453360"/>
            <a:ext cx="10191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095F-5A9C-4E9E-A45E-A59D81A3E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8"/>
          <p:cNvGrpSpPr/>
          <p:nvPr/>
        </p:nvGrpSpPr>
        <p:grpSpPr>
          <a:xfrm>
            <a:off x="47520" y="0"/>
            <a:ext cx="2088720" cy="642960"/>
            <a:chOff x="47520" y="0"/>
            <a:chExt cx="2088720" cy="642960"/>
          </a:xfrm>
        </p:grpSpPr>
        <p:pic>
          <p:nvPicPr>
            <p:cNvPr id="10" name="Picture 9" descr="whtc"/>
            <p:cNvPicPr/>
            <p:nvPr/>
          </p:nvPicPr>
          <p:blipFill>
            <a:blip r:embed="rId4"/>
            <a:stretch/>
          </p:blipFill>
          <p:spPr>
            <a:xfrm>
              <a:off x="904320" y="26280"/>
              <a:ext cx="123192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0" descr="htc_light"/>
            <p:cNvPicPr/>
            <p:nvPr/>
          </p:nvPicPr>
          <p:blipFill>
            <a:blip r:embed="rId5"/>
            <a:stretch/>
          </p:blipFill>
          <p:spPr>
            <a:xfrm>
              <a:off x="47520" y="0"/>
              <a:ext cx="856800" cy="642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2" descr="2009"/>
          <p:cNvPicPr/>
          <p:nvPr/>
        </p:nvPicPr>
        <p:blipFill>
          <a:blip r:embed="rId2"/>
          <a:srcRect l="16738" t="0" r="0" b="0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1"/>
          <p:cNvPicPr/>
          <p:nvPr/>
        </p:nvPicPr>
        <p:blipFill>
          <a:blip r:embed="rId3"/>
          <a:stretch/>
        </p:blipFill>
        <p:spPr>
          <a:xfrm>
            <a:off x="177840" y="595008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1"/>
          <p:cNvPicPr/>
          <p:nvPr/>
        </p:nvPicPr>
        <p:blipFill>
          <a:blip r:embed="rId4"/>
          <a:stretch/>
        </p:blipFill>
        <p:spPr>
          <a:xfrm>
            <a:off x="1114560" y="5950080"/>
            <a:ext cx="793440" cy="793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1"/>
          <p:cNvPicPr/>
          <p:nvPr/>
        </p:nvPicPr>
        <p:blipFill>
          <a:blip r:embed="rId5"/>
          <a:stretch/>
        </p:blipFill>
        <p:spPr>
          <a:xfrm>
            <a:off x="2049480" y="595008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1"/>
          <p:cNvPicPr/>
          <p:nvPr/>
        </p:nvPicPr>
        <p:blipFill>
          <a:blip r:embed="rId6"/>
          <a:stretch/>
        </p:blipFill>
        <p:spPr>
          <a:xfrm>
            <a:off x="2986200" y="5950080"/>
            <a:ext cx="793800" cy="793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2071800"/>
            <a:ext cx="807264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Arial"/>
              </a:rPr>
              <a:t>股票代號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:6208</a:t>
            </a:r>
            <a:br>
              <a:rPr sz="6000"/>
            </a:br>
            <a:r>
              <a:rPr b="1" lang="zh-TW" sz="6000" spc="-1" strike="noStrike">
                <a:solidFill>
                  <a:srgbClr val="ff0000"/>
                </a:solidFill>
                <a:latin typeface="Arial"/>
              </a:rPr>
              <a:t>日揚科技股份有限公司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C-01"/>
          <p:cNvPicPr/>
          <p:nvPr/>
        </p:nvPicPr>
        <p:blipFill>
          <a:blip r:embed="rId1"/>
          <a:stretch/>
        </p:blipFill>
        <p:spPr>
          <a:xfrm>
            <a:off x="214200" y="1285920"/>
            <a:ext cx="2286000" cy="771480"/>
          </a:xfrm>
          <a:prstGeom prst="rect">
            <a:avLst/>
          </a:prstGeom>
          <a:ln w="0">
            <a:noFill/>
          </a:ln>
        </p:spPr>
      </p:pic>
      <p:sp>
        <p:nvSpPr>
          <p:cNvPr id="100" name="文字方塊 5"/>
          <p:cNvSpPr/>
          <p:nvPr/>
        </p:nvSpPr>
        <p:spPr>
          <a:xfrm>
            <a:off x="7286760" y="6215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 5 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28400" y="642960"/>
            <a:ext cx="871524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85840" y="928800"/>
          <a:ext cx="8715240" cy="5735520"/>
        </p:xfrm>
        <a:graphic>
          <a:graphicData uri="http://schemas.openxmlformats.org/drawingml/2006/table">
            <a:tbl>
              <a:tblPr/>
              <a:tblGrid>
                <a:gridCol w="2349360"/>
                <a:gridCol w="1579680"/>
                <a:gridCol w="642960"/>
                <a:gridCol w="1869840"/>
                <a:gridCol w="1630440"/>
                <a:gridCol w="642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股東權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及約當現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9,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40,1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收票據及帳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68,5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長期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9,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存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6,7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,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3,7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5,9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68,8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415,4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投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62,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固定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82,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無形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6,8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01,3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01,3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矩形 3"/>
          <p:cNvSpPr/>
          <p:nvPr/>
        </p:nvSpPr>
        <p:spPr>
          <a:xfrm>
            <a:off x="4006440" y="0"/>
            <a:ext cx="19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010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第一季簡明資產負債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　　　　　　　　　　　　　　　　　　　　　　　　　　　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85840" y="928800"/>
          <a:ext cx="8501040" cy="5079960"/>
        </p:xfrm>
        <a:graphic>
          <a:graphicData uri="http://schemas.openxmlformats.org/drawingml/2006/table">
            <a:tbl>
              <a:tblPr/>
              <a:tblGrid>
                <a:gridCol w="5172120"/>
                <a:gridCol w="3328920"/>
              </a:tblGrid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營業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24,4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期淨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,2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折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,48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增資員工認股選擇權酬勞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,7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9,9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投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64,74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本支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,93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投資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7,68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融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129,18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短期借款及應付短期票券減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46,270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償還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,91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增資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0,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現金淨增加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59,99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年初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9,7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年底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49,7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8" name="矩形 3"/>
          <p:cNvSpPr/>
          <p:nvPr/>
        </p:nvSpPr>
        <p:spPr>
          <a:xfrm>
            <a:off x="3994560" y="0"/>
            <a:ext cx="22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1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年第一季現金流量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64260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揚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歷年財務比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14200" y="1428840"/>
          <a:ext cx="8748720" cy="4714920"/>
        </p:xfrm>
        <a:graphic>
          <a:graphicData uri="http://schemas.openxmlformats.org/drawingml/2006/table">
            <a:tbl>
              <a:tblPr/>
              <a:tblGrid>
                <a:gridCol w="87487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     2002      2003     2004     2005     2006     2007     2008      2009      2010Q1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性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比率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77%     259%    295%    269%    181%    160%    122%    111%    127%      226%  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速動比率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77%     162%    193%    164%    128%    113%      79%      63%     84%      142%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管理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固定資產週轉率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.20      3.02      2.89      3.62      4.56      3.00      6.36       3.84      2.76       3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總資產週轉率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66      0.80      0.77      0.95      0.88      0.77      0.77       0.67      0.44       0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管理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比率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8.7%    25.8%   41.0%   41.3%   39.4%   40.6%   42.0%  41.9%    36.3%    2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利息保障倍數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0.70     69.49     22.59    36.68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4.99    54.12    24.76     9.38     (3.58)      16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獲利性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毛利率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2.8%   34.5%   34.5%   33.0%    28.5%   29.3%   27.9%   28.8%   24.6%     3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總資產報酬率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7.6%   14.5%   14.3%   15.4%    12.8%   10.7%    5.5%     3.4%    (1.9%)      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報酬率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9.6%   18.8%   21.1%   25.5%    20.8%   17.5%    8.9%     5.2%    (3.9%)    5.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每股盈餘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82     1.84       2.08     2.79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.38       2.37      1.12      0.72      (0.51)       0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124000" y="4076640"/>
            <a:ext cx="487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http://www.high-light.com.t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1987560" y="292428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aae8f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aae8f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14200" y="64260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ts val="3362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            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財務資訊摘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44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▓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009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因金融風暴影響，年營收為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NT$8.15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億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合併營收為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NT$10.66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億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首度出現小額虧損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EPS-0.51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44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▓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010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Q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營收為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NT$2.35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億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較去年同期略為減少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5.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44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因產業逐漸復甦及主要客戶陸續提高資本支出計劃，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010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業績展望樂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71424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85840" y="1000080"/>
          <a:ext cx="8643960" cy="5429160"/>
        </p:xfrm>
        <a:graphic>
          <a:graphicData uri="http://schemas.openxmlformats.org/drawingml/2006/table">
            <a:tbl>
              <a:tblPr/>
              <a:tblGrid>
                <a:gridCol w="2833560"/>
                <a:gridCol w="1700280"/>
                <a:gridCol w="779400"/>
                <a:gridCol w="1673280"/>
                <a:gridCol w="736560"/>
                <a:gridCol w="920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YoY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14,6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356,6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成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14,3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68,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毛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,3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8,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1,3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19,3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淨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,9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8,6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外收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6,80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7,52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稅前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57,83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1,1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6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所得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利益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1,94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2,1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3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期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5,88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9,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7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0.5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.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矩形 5"/>
          <p:cNvSpPr/>
          <p:nvPr/>
        </p:nvSpPr>
        <p:spPr>
          <a:xfrm>
            <a:off x="2357280" y="0"/>
            <a:ext cx="518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年度損益比較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28400" y="642960"/>
            <a:ext cx="871524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85840" y="928800"/>
          <a:ext cx="8715240" cy="5381640"/>
        </p:xfrm>
        <a:graphic>
          <a:graphicData uri="http://schemas.openxmlformats.org/drawingml/2006/table">
            <a:tbl>
              <a:tblPr/>
              <a:tblGrid>
                <a:gridCol w="2349360"/>
                <a:gridCol w="1363680"/>
                <a:gridCol w="644400"/>
                <a:gridCol w="2084400"/>
                <a:gridCol w="1630440"/>
                <a:gridCol w="642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股東權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及約當現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9,7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16,2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收票據及帳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88,4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長期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2,7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存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54,8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,3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8,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66,4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81,4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169,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投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65,9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固定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95,5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無形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2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1,3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35,5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股東權益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35,5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矩形 3"/>
          <p:cNvSpPr/>
          <p:nvPr/>
        </p:nvSpPr>
        <p:spPr>
          <a:xfrm>
            <a:off x="3223800" y="0"/>
            <a:ext cx="35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度簡明資產負債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　　　　　　　　　　　　　　　　　　　　　　　　　　　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928800"/>
          <a:ext cx="8501040" cy="5397480"/>
        </p:xfrm>
        <a:graphic>
          <a:graphicData uri="http://schemas.openxmlformats.org/drawingml/2006/table">
            <a:tbl>
              <a:tblPr/>
              <a:tblGrid>
                <a:gridCol w="5172120"/>
                <a:gridCol w="3328920"/>
              </a:tblGrid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營業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90,35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期淨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5,888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折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4,39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按權益法認列之投資損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3,4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8,4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投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281,631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本支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,635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投資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73,99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融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20,16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舉借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0,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償還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5,479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贖回公司債價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28,51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理財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3,83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現金淨減少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111,439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年初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1,20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年底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89,7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0" name="矩形 3"/>
          <p:cNvSpPr/>
          <p:nvPr/>
        </p:nvSpPr>
        <p:spPr>
          <a:xfrm>
            <a:off x="3344040" y="0"/>
            <a:ext cx="35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年度現金流量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71424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85840" y="1000080"/>
          <a:ext cx="8643960" cy="5429160"/>
        </p:xfrm>
        <a:graphic>
          <a:graphicData uri="http://schemas.openxmlformats.org/drawingml/2006/table">
            <a:tbl>
              <a:tblPr/>
              <a:tblGrid>
                <a:gridCol w="2833560"/>
                <a:gridCol w="1700280"/>
                <a:gridCol w="779400"/>
                <a:gridCol w="1673280"/>
                <a:gridCol w="736560"/>
                <a:gridCol w="920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YoY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066,3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13,8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成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09,7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311,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毛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56,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2,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7,8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8,5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淨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1,21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4,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1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外收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5,6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56,38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併稅前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6,84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7,7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5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所得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利益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1,95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,5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4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併總純益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純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4,89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,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4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0.5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.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矩形 5"/>
          <p:cNvSpPr/>
          <p:nvPr/>
        </p:nvSpPr>
        <p:spPr>
          <a:xfrm>
            <a:off x="2357280" y="0"/>
            <a:ext cx="518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年度合併損益比較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400" y="642960"/>
            <a:ext cx="871524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14200" y="949320"/>
          <a:ext cx="8715600" cy="5857920"/>
        </p:xfrm>
        <a:graphic>
          <a:graphicData uri="http://schemas.openxmlformats.org/drawingml/2006/table">
            <a:tbl>
              <a:tblPr/>
              <a:tblGrid>
                <a:gridCol w="2349720"/>
                <a:gridCol w="1650960"/>
                <a:gridCol w="642960"/>
                <a:gridCol w="1798560"/>
                <a:gridCol w="1630440"/>
                <a:gridCol w="642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股東權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及約當現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4,6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129,6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收票據及帳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43,8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長期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4,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存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78,9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3,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243,9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081,0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238,0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投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8,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固定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076,5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無形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1,9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4,2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,482,0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,482,0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矩形 3"/>
          <p:cNvSpPr/>
          <p:nvPr/>
        </p:nvSpPr>
        <p:spPr>
          <a:xfrm>
            <a:off x="3010680" y="0"/>
            <a:ext cx="39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度簡明合併資產負債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　　　　　　　　　　　　　　　　　　　　　　　　　　　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85840" y="928800"/>
          <a:ext cx="8501040" cy="5715000"/>
        </p:xfrm>
        <a:graphic>
          <a:graphicData uri="http://schemas.openxmlformats.org/drawingml/2006/table">
            <a:tbl>
              <a:tblPr/>
              <a:tblGrid>
                <a:gridCol w="5172120"/>
                <a:gridCol w="3328920"/>
              </a:tblGrid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營業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15,5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併總純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4,898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折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9,33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1,0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投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88,03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本支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7,72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投資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10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融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176,811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舉借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9,56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償還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6,885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贖回公司債價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28,51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理財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90,97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對子公司喪失控制能力前現金流量淨影響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8,593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匯率影響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,27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現金淨減少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102,18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年初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6,8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年底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04,64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9" name="矩形 3"/>
          <p:cNvSpPr/>
          <p:nvPr/>
        </p:nvSpPr>
        <p:spPr>
          <a:xfrm>
            <a:off x="3100680" y="0"/>
            <a:ext cx="40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年度合併現金流量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71424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85840" y="1000080"/>
          <a:ext cx="8643960" cy="5429160"/>
        </p:xfrm>
        <a:graphic>
          <a:graphicData uri="http://schemas.openxmlformats.org/drawingml/2006/table">
            <a:tbl>
              <a:tblPr/>
              <a:tblGrid>
                <a:gridCol w="2833560"/>
                <a:gridCol w="1700280"/>
                <a:gridCol w="779400"/>
                <a:gridCol w="1673280"/>
                <a:gridCol w="736560"/>
                <a:gridCol w="920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10Q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9Q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YoY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35,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7,3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成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5,2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6,9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毛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9,8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,4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1,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7,2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淨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,9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,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外收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8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稅前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,8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,3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所得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利益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,10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期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,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,4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.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矩形 5"/>
          <p:cNvSpPr/>
          <p:nvPr/>
        </p:nvSpPr>
        <p:spPr>
          <a:xfrm>
            <a:off x="2357280" y="0"/>
            <a:ext cx="518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2010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年第一季損益比較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5:59:41Z</dcterms:created>
  <dc:creator>YELIN</dc:creator>
  <dc:description/>
  <dc:language>en-US</dc:language>
  <cp:lastModifiedBy>yelin</cp:lastModifiedBy>
  <dcterms:modified xsi:type="dcterms:W3CDTF">2010-05-05T08:37:54Z</dcterms:modified>
  <cp:revision>266</cp:revision>
  <dc:subject/>
  <dc:title>HTC簡報範本(横式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文件</vt:lpwstr>
  </property>
</Properties>
</file>